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52388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69720" y="1365120"/>
            <a:ext cx="8439480" cy="52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Retrieving Image Base64 or DIME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89320" y="1920960"/>
            <a:ext cx="981000" cy="9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6840" y="2874960"/>
            <a:ext cx="32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ImageBase64(string ImageNam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ImageDIME(string ImageName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910560" y="1984320"/>
            <a:ext cx="69516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201760" y="3263760"/>
            <a:ext cx="7239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36680" y="3263760"/>
            <a:ext cx="88560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762600" y="2938320"/>
            <a:ext cx="1781280" cy="1117800"/>
          </a:xfrm>
          <a:prstGeom prst="rect">
            <a:avLst/>
          </a:prstGeom>
          <a:ln w="28440">
            <a:solidFill>
              <a:srgbClr val="6699ff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262160" y="3819600"/>
            <a:ext cx="798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66840" y="3652920"/>
            <a:ext cx="914400" cy="144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755800" y="2373120"/>
            <a:ext cx="1309680" cy="468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3600" y="4792680"/>
            <a:ext cx="5263200" cy="158580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The User loads image_load.aspx, selects DIME or Base6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The web page sets the URL of the Image server control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ther web page (load_base64.aspx or load_dime.aspx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This page then calls the appropriate Web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) The Web service retrieves the image based on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ile binary is added to the output stream for the imag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he image is loaded on the web p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091120" y="2363400"/>
            <a:ext cx="1689120" cy="324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47920" y="2576520"/>
            <a:ext cx="0" cy="64944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2158920" y="1744560"/>
            <a:ext cx="615960" cy="87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3654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6000" y="2700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3000" y="196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5440" y="19382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9920" y="407844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bo9x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720" y="1365120"/>
            <a:ext cx="8439480" cy="52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10880"/>
            <a:ext cx="8393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Uploading Multiples Images Using a Web service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1560" y="1920960"/>
            <a:ext cx="981000" cy="97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87600" y="162576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mages(WebServiceImage[] ImageArra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167360" y="3625920"/>
            <a:ext cx="695160" cy="761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01760" y="3263760"/>
            <a:ext cx="723960" cy="89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36680" y="3263760"/>
            <a:ext cx="885600" cy="99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62160" y="3819600"/>
            <a:ext cx="798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66840" y="3652920"/>
            <a:ext cx="914400" cy="144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8680" y="2236680"/>
            <a:ext cx="3754440" cy="3561840"/>
          </a:xfrm>
          <a:prstGeom prst="rect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The user loads uploaded_images.asp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The user drags and drops one or more images onto th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+” symb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The + symbol is a windows hosted control which ge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mes of the files from the drag&amp;drop event and call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web service to upload them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 The Web service saves each file binary and filenam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ile system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 The Windows Control displays “OK” when compl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 The user clicks imagegallery.aspx which creates a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amic image gallery of the images in the uploa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52480" y="2808360"/>
            <a:ext cx="1800" cy="74916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3654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36000" y="27003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3000" y="196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2440" y="292104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9439"/>
                </a:solidFill>
                <a:latin typeface="Wingdings"/>
                <a:ea typeface="Wingdings"/>
              </a:rPr>
              <a:t>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7560" y="1681200"/>
            <a:ext cx="847800" cy="961920"/>
            <a:chOff x="1987560" y="1681200"/>
            <a:chExt cx="847800" cy="96192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987560" y="1681200"/>
              <a:ext cx="847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825000">
              <a:off x="2095920" y="19681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63840" y="1660680"/>
            <a:ext cx="1245960" cy="961920"/>
            <a:chOff x="1563840" y="1660680"/>
            <a:chExt cx="1245960" cy="961920"/>
          </a:xfrm>
        </p:grpSpPr>
        <p:grpSp>
          <p:nvGrpSpPr>
            <p:cNvPr id="114" name=""/>
            <p:cNvGrpSpPr/>
            <p:nvPr/>
          </p:nvGrpSpPr>
          <p:grpSpPr>
            <a:xfrm>
              <a:off x="1962000" y="1660680"/>
              <a:ext cx="847800" cy="961920"/>
              <a:chOff x="1962000" y="1660680"/>
              <a:chExt cx="847800" cy="961920"/>
            </a:xfrm>
          </p:grpSpPr>
          <p:pic>
            <p:nvPicPr>
              <p:cNvPr id="11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62000" y="1660680"/>
                <a:ext cx="84780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825000">
                <a:off x="2025360" y="2008080"/>
                <a:ext cx="40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563840" y="19144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9439"/>
                  </a:solidFill>
                  <a:latin typeface="Wingdings"/>
                  <a:ea typeface="Wingdings"/>
                </a:rPr>
                <a:t>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2347920" y="2576520"/>
            <a:ext cx="0" cy="64944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55800" y="2373120"/>
            <a:ext cx="1309680" cy="4680"/>
          </a:xfrm>
          <a:prstGeom prst="line">
            <a:avLst/>
          </a:prstGeom>
          <a:ln w="57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244520" y="4235400"/>
            <a:ext cx="1555920" cy="898560"/>
            <a:chOff x="1244520" y="4235400"/>
            <a:chExt cx="1555920" cy="898560"/>
          </a:xfrm>
        </p:grpSpPr>
        <p:sp>
          <p:nvSpPr>
            <p:cNvPr id="121" name=""/>
            <p:cNvSpPr/>
            <p:nvPr/>
          </p:nvSpPr>
          <p:spPr>
            <a:xfrm>
              <a:off x="1244520" y="4235400"/>
              <a:ext cx="752400" cy="3333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2076480" y="4238640"/>
              <a:ext cx="7239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43160" y="43768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9439"/>
                  </a:solidFill>
                  <a:latin typeface="Wingdings"/>
                  <a:ea typeface="Wingdings"/>
                </a:rPr>
                <a:t>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8:41:42Z</dcterms:created>
  <dc:creator>Dan Fernandez</dc:creator>
  <dc:description>Event Date: April 9-13 2002
Event Location: New Orleans, LA
Speech Length: 1:15m
Audience: Corporate developer
</dc:description>
  <cp:keywords>C#</cp:keywords>
  <dc:language>en-US</dc:language>
  <cp:lastModifiedBy>danielfe</cp:lastModifiedBy>
  <dcterms:modified xsi:type="dcterms:W3CDTF">2003-06-17T00:16:09Z</dcterms:modified>
  <cp:revision>67</cp:revision>
  <dc:subject>TechEd 2003</dc:subject>
  <dc:title>Building Middle-Tier Applications in C#</dc:title>
</cp:coreProperties>
</file>