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6239-F559-4F97-8E08-24DBE87B3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350A-FFC0-4A20-86E5-9450E10DF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is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39420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05000" indent="-39276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05000" indent="-3927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05000" indent="-3927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52388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5920" algn="ctr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3520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35200" indent="95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35200" indent="95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52388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800" spc="-1" strike="noStrike">
                <a:solidFill>
                  <a:srgbClr val="ffcc29"/>
                </a:solidFill>
                <a:latin typeface="Arial"/>
              </a:rPr>
              <a:t>Introduction to Regular Expressions in .NE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7280" y="4070160"/>
            <a:ext cx="786132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ephen For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TO, Corzen In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crosoft Regional Director NY/NJ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he RegEx Base Class</a:t>
            </a:r>
            <a:br>
              <a:rPr sz="4800"/>
            </a:b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5640" y="1483920"/>
            <a:ext cx="8388360" cy="59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Ex object w/ creating 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Match(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 in pattern and search st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laces text based on a patte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l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lits a string at each point a match pattern is fou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he RegEx Base Class</a:t>
            </a:r>
            <a:br>
              <a:rPr sz="4800"/>
            </a:b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5640" y="1484280"/>
            <a:ext cx="8388360" cy="43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turing Parentheses (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” Pipe: |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gnoreCas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ch Steve, Stephen or Steven (case insensitive)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hen &amp; Steven: Ste(v|ph)e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3: Ste((v|ph)en|ve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11280" y="2122200"/>
            <a:ext cx="72738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Using the RegEx Objec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6880" y="2705040"/>
            <a:ext cx="2576520" cy="13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Match and MatchCollection</a:t>
            </a:r>
            <a:br>
              <a:rPr sz="4800"/>
            </a:b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5640" y="1699920"/>
            <a:ext cx="838836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ws us to obtain the details of each match made via a regular expre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ch-represents a single match ma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chCollection-a collection of Match Obj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4360" y="2098440"/>
            <a:ext cx="8243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Match and MatchColle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6880" y="2705040"/>
            <a:ext cx="2576520" cy="13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Regular Expre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gEx Namespace &amp; Base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29"/>
                </a:solidFill>
                <a:latin typeface="Arial"/>
              </a:rPr>
              <a:t>Regular Expression Synt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s, Substitutions &amp; Backreferenc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RegEx In the Real Wor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RegEx Pattern Syntax</a:t>
            </a:r>
            <a:br>
              <a:rPr sz="4800"/>
            </a:b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8920" y="1015560"/>
            <a:ext cx="41176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acter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541520"/>
          <a:ext cx="8640720" cy="5054400"/>
        </p:xfrm>
        <a:graphic>
          <a:graphicData uri="http://schemas.openxmlformats.org/drawingml/2006/table">
            <a:tbl>
              <a:tblPr/>
              <a:tblGrid>
                <a:gridCol w="1944720"/>
                <a:gridCol w="3563640"/>
                <a:gridCol w="313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aracter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hat it match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gits from 0-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d matches 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ything that is not 0-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D matches 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y “word” character and underscore, not $@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w matches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y non-word charac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W matches 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y whitesp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ewline, char return, et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y non-whitespace charac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ything not a whitesp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y charac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verything but a new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 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ything you specify between the [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Steve] will match a single character: s t e v 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a-c] will match via a r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^ 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ything other than what you specify between the [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^Steve] will match any letters that are not s t e v 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71680" indent="-571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n also use ran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haracter Classe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5640" y="1699920"/>
            <a:ext cx="8388360" cy="46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-800-\d\d\d-\d\d\d\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ches 1-800-555-1212, but NOT 1-900-555-555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-[1-8]\d\d-\d\d\d-\d\d\d\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ches 1-800-555-1212, but NOT 1-900-555-555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RegEx Pattern Syntax-’cont</a:t>
            </a:r>
            <a:br>
              <a:rPr sz="4800"/>
            </a:b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7467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sition Charac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1640" y="1916280"/>
          <a:ext cx="7885440" cy="4065480"/>
        </p:xfrm>
        <a:graphic>
          <a:graphicData uri="http://schemas.openxmlformats.org/drawingml/2006/table">
            <a:tbl>
              <a:tblPr/>
              <a:tblGrid>
                <a:gridCol w="3943440"/>
                <a:gridCol w="394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sition Charac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^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ch must start at the beginning of the string or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preceding pattern must be at the end of a st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rt of string, multi-line flag is igno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d of string, multi-line flag is igno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d of string or end of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ord bound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word boundary, not start of a wor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RegEx Pattern Syntax</a:t>
            </a:r>
            <a:br>
              <a:rPr sz="4800"/>
            </a:b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41180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76360" y="1933560"/>
          <a:ext cx="8316720" cy="4622760"/>
        </p:xfrm>
        <a:graphic>
          <a:graphicData uri="http://schemas.openxmlformats.org/drawingml/2006/table">
            <a:tbl>
              <a:tblPr/>
              <a:tblGrid>
                <a:gridCol w="1385640"/>
                <a:gridCol w="2887920"/>
                <a:gridCol w="4043160"/>
              </a:tblGrid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petition Charac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ch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ample/Expla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{x}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ch x number of the 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d{3} matches 2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{x, }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ches x number or more of the 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d{3} matches 212 or 2125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{x, n}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ches x number of the item, with a maximum of n ti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d{2,4} matches 21, 212, and 2123, but not 1234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 optional match, zero or 1 mat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d? will match if there is a 1 or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ches item one or more ti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d+ will match 1 or 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ches zero or more ti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\d* will return 1 or 12 or 123, or noth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peaker.Bio.ToString()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28000" cy="50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TO and co-Founder of Corzen, In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Regional Director for New York &amp; NJ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ote a few books (Jet, VB, SQL Server, Acces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ing ‘Yukon Book’ for MS Press due out in ‘0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ical Editor &amp; Author of VB/SQL Adviso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Conference Speaker for 6+ Yea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-moderator &amp; founder of NYC .NET Developers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nycdotnetdev.c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er CTO of Zagat Surve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bbies include: high altitude trekking, scuba diving, hiking, rock climbing and independent fi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Repetition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5640" y="1700280"/>
            <a:ext cx="8388360" cy="46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-\d{3}-\d{3}-\d{4}|1-\(\d{3}\)-\d{3}-\d{4}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ches 1-800-555-1212 and 1-900-555-555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-\(?\d{3}\)?-\d{3}-\d{4}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ches 1-(800)-555-1212 or 1-800-555-1212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2098440"/>
            <a:ext cx="8243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RegEx Patter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6880" y="2705040"/>
            <a:ext cx="2576520" cy="13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Regular Expre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gEx Namespace &amp; Base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ular Expression Synt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29"/>
                </a:solidFill>
                <a:latin typeface="Arial"/>
              </a:rPr>
              <a:t>Groups, Substitutions &amp; Backreferenc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RegEx In the Real Wor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Groups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6000" y="1484280"/>
            <a:ext cx="8640720" cy="68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 and Group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turing: (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-Capturing: (?: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d Capture (.NET only): (?&lt;name&gt;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-\(?\d{3}\)?-\d{3}-\d{4}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ches 1-(800)-555-1212 or 1-800-555-1212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titu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ized Replace via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Backreferences 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6000" y="1483920"/>
            <a:ext cx="8640720" cy="37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ws you to  match the same characters as a previous gro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ch repeated word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\b[a-zA-Z] + \b)\s\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dvanced Grouping  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6000" y="1483920"/>
            <a:ext cx="8640720" cy="57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e Look-Ahead Assertion (?=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gative Look-Ahead Assertion (?!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e Look-Behind Assertion (?&lt;=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gative Look-Behind Assertion (?&lt;!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-Backtracking (?&gt;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ch repeated word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\b[a-zA-Z] + \b)\s\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4360" y="2098440"/>
            <a:ext cx="8243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Group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6880" y="2705040"/>
            <a:ext cx="2576520" cy="13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Regular Expre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gEx Namespace &amp; Base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ular Expression Synt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s, Substitutions &amp; Backreferences</a:t>
            </a:r>
            <a:r>
              <a:rPr b="1" lang="en-US" sz="3200" spc="-1" strike="noStrike">
                <a:solidFill>
                  <a:srgbClr val="ffcc2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29"/>
                </a:solidFill>
                <a:latin typeface="Arial"/>
              </a:rPr>
              <a:t>Using RegEx In the Real Wor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RegEx in the Real World  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484280"/>
            <a:ext cx="8640720" cy="45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Valid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ryString Valid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eaning up text (HTML Remova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ping HTML P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sing Log Fi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4360" y="2098440"/>
            <a:ext cx="8243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Validation and HTML Pag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6880" y="2705040"/>
            <a:ext cx="2576520" cy="133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29"/>
                </a:solidFill>
                <a:latin typeface="Arial"/>
              </a:rPr>
              <a:t>Introduction to Regular Expre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gEx Namespace &amp; Base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ular Expression Synt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s, Substitutions &amp; Backrefere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RegEx In the Real Wor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Questions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828800" y="1523880"/>
            <a:ext cx="6054840" cy="3537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21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hat are Regular Expressions? (RegEx)</a:t>
            </a:r>
            <a:br>
              <a:rPr sz="4800"/>
            </a:b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5640" y="1700280"/>
            <a:ext cx="8388360" cy="62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ful text matching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ful text manipu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RegEx is a series of characters that are transformed into an algorithm that matches and manipulates tex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ch Patter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 or Not to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((v|ph)en|ve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\d-\d\d\d-\d\d\d-\d\d\d\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\w+([-+.]\w+)*@\w+([-.]\w+)*\.\w+([-.]\w+)*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History of RegEx- Early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521000"/>
            <a:ext cx="8388360" cy="61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40s-50s math based resear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68 article by Ken Thompso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ular Expression Search Algorithm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p for Unix, command line tool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/Regular Expression/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obal Regular Expression Print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re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avors- Traditional NFA, POS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86-Henry Spencer’s RegEx for 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5640" y="260280"/>
            <a:ext cx="876276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History of RegEx-Perl to .NE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5640" y="1699920"/>
            <a:ext cx="8388360" cy="38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te 80s to Early 90s, RegEx and Perl were basically evolving toge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te 90s, RegEx comes to Microsof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vaScript and 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2-RegEx Namespace for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Regular Expre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29"/>
                </a:solidFill>
                <a:latin typeface="Arial"/>
              </a:rPr>
              <a:t>The RegEx Namespace &amp; Base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ular Expression Synt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s, Substitutions &amp; Backrefere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RegEx In the Real Wor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1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he RegEx Namespace</a:t>
            </a:r>
            <a:br>
              <a:rPr sz="4800"/>
            </a:b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System.Text.RegularExpressions</a:t>
            </a:r>
            <a:endParaRPr b="1" lang="en-US" sz="2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5640" y="1699920"/>
            <a:ext cx="83883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NET Base 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space: System.Text.Regular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use from any .NET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s the “Traditional NFA RegEX Engine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does Java, Perl, etc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most all patterns will work the s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NET is only flavor to implement “Named Captures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1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he RegEx Namespace</a:t>
            </a:r>
            <a:br>
              <a:rPr sz="4800"/>
            </a:b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System.Text.RegularExpressions</a:t>
            </a:r>
            <a:endParaRPr b="1" lang="en-US" sz="2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5640" y="1700280"/>
            <a:ext cx="8388360" cy="58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E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ch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ture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ExCompilationInf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8:41:42Z</dcterms:created>
  <dc:creator>Stephen Forte</dc:creator>
  <dc:description>Template Design: P. Macomber; Silver Fox Productions, Inc.
Formatter:
Event Date: April 9-13 2002
Event Location: New Orleans, LA
Speech Length:
Audience: Corporate developer, IT implementor, consultants, OEMs etc
Key Topics:</dc:description>
  <dc:language>en-US</dc:language>
  <cp:lastModifiedBy>Stephen Forte</cp:lastModifiedBy>
  <dcterms:modified xsi:type="dcterms:W3CDTF">2003-04-28T23:59:02Z</dcterms:modified>
  <cp:revision>38</cp:revision>
  <dc:subject>TechEd 2003</dc:subject>
  <dc:title>RegE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92844362</vt:r8>
  </property>
  <property fmtid="{D5CDD505-2E9C-101B-9397-08002B2CF9AE}" pid="3" name="_AuthorEmail">
    <vt:lpwstr>KristenM@silverfoxprod.com</vt:lpwstr>
  </property>
  <property fmtid="{D5CDD505-2E9C-101B-9397-08002B2CF9AE}" pid="4" name="_AuthorEmailDisplayName">
    <vt:lpwstr>Kristen Lui</vt:lpwstr>
  </property>
  <property fmtid="{D5CDD505-2E9C-101B-9397-08002B2CF9AE}" pid="5" name="_EmailSubject">
    <vt:lpwstr>Tech Ed Speaker PPT Template</vt:lpwstr>
  </property>
  <property fmtid="{D5CDD505-2E9C-101B-9397-08002B2CF9AE}" pid="6" name="_ReviewingToolsShownOnce">
    <vt:lpwstr/>
  </property>
</Properties>
</file>